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A543-2F34-4EDD-AB73-F4519584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9337-4857-41D7-91A3-5C4B7B31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D83-1CF4-45C6-B14D-FC769469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237-C810-4690-B10B-54B7871B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A1F5-112D-4E84-BE05-2062759F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E000-1548-46ED-B7E1-0364E348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5868-F322-4603-8D1D-8DA94D2E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9AB4-0214-4334-BEBA-190AF8D6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98B4-C1FB-4662-861D-07593618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BA14-58A1-40D7-B305-1E0F268F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F3B1-A213-46D4-8F53-BE0FAF8B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7459-1CA4-4E23-AF9E-956DEDFA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EE63-3DFB-4166-889B-E45BCBF2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A8AE-AC03-4805-9EF4-1CB731FE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987C-55C8-4FC0-86FB-835933A3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39D5-0BF4-45D0-8B2F-634338D5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7774-F6AA-4C5B-90AB-7758A9AB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760-A3F2-4A4B-819F-69C5519C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888B-12D6-499F-8A8E-7F4344F8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61C-C137-4CA4-9E85-52899429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870A-20B5-4522-A80F-9A7F5150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3B46-743A-473D-AD60-14B0128B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0C3-CC84-4415-8DEA-E1E718D8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65F-8B1D-443C-93B2-CFB2CCB1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3311-5DCD-4AAF-B4A2-00B7EA6BAD26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8EDE-5605-40D4-A491-11B6FFCDC932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The Origins and Development of the English Language Chapter 11: New Words from Old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Alg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hael Che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Chengchi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ombining Words: Compounding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lling and Pronun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unds vary in stress, phrases have more even 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an-eating shri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an eating shri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Combining Words: Compounding</a:t>
            </a:r>
            <a:br>
              <a:rPr sz="4000"/>
            </a:b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tress difference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b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ckb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n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h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udspe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 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b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ck b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n 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 h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ud spe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Combining Words: Compounding</a:t>
            </a:r>
            <a:br>
              <a:rPr sz="4000"/>
            </a:b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tress difference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und nouns are usually stressed on the first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und adverbs and prepositions are stressed on the last syl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 and pronouns v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Combining Words: Compounding</a:t>
            </a:r>
            <a:br>
              <a:rPr sz="4000"/>
            </a:b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tress difference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netic changes occ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wel reduction in these wo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man, highwayman, gentleman, horseman, postman, Maryland, Iceland, woodland, hig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vowel reduction in these wo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man, milkman, iceman, wonderland, movieland, Disneylan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Combining Words: Compounding</a:t>
            </a:r>
            <a:br>
              <a:rPr sz="4000"/>
            </a:b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tress difference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vowel re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folk, Suffolk, Portsmouth, Wyecombe, Edinburgh, Folkest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xswain, Keswick, Durh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atswain, forecastle, breakfast, Christmas, cupboard, Greenw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Combining Words: Compounding</a:t>
            </a:r>
            <a:br>
              <a:rPr sz="4000"/>
            </a:b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tress difference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tional pronunciations are going back to spelling pronunc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atsw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p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ind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st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istc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Combining Words: Compounding</a:t>
            </a:r>
            <a:br>
              <a:rPr sz="4000"/>
            </a:b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Amalgamated Compound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words that were originally compounds look like one word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sy from dayes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ë ‘day’s eye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from eal+swa ‘all so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rlic ‘spear leek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ssy ‘house wif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rd, Marshall, Nostril, Sher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ston, Bewley, Sussex, Norwich, Durward, Purdue, Thurst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ombining Words: Compound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and Form of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the book for examples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Combining Word Parts: Affixing</a:t>
            </a:r>
            <a:br>
              <a:rPr sz="4000"/>
            </a:b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Affixes from Old English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ffixes used to be independent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- was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y was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c meaning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īc = l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n English is again using like as a suffix to form ad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tlemanl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tleman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Combining Word Parts: Affixing</a:t>
            </a:r>
            <a:br>
              <a:rPr sz="4000"/>
            </a:b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Affixes from Other Language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in, Greek, French supply affixes that are used to create new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k anti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in pro-, super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ffi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in -ese, -an, -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k -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New Words from Old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ords constantly enter the English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proces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f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Combining Word Parts: Affixing</a:t>
            </a:r>
            <a:br>
              <a:rPr sz="4000"/>
            </a:b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Voguish Affixe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ixes that become fashionable during certain time peri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ise meaning ‘in respect to’ or ‘in the manner of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ze used in accessorize, moisturize, sanitize, glamorize, tender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sm used in racism, sexism, ageism, Me-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ombining Word Parts: Affixing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hortening Words: Clipped Form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hortening of a longer word that sometimes supplants the ori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nibus, mobile vulgus, pantaloons, taximeter cabriolet, brassiere, periw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e, zoo, extra, flu, auto, 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x, perk, pren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hortening Words: Clipped Form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pping can cut between words or morp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 opera &gt; 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graphy &gt; 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sometimes the cut in the middle of morp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habilitate &gt; reh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icopter &gt; chopper,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ic -o- 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hortening Words: Initialisms</a:t>
            </a:r>
            <a:br>
              <a:rPr sz="4000"/>
            </a:b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Alphabetisms and Acronym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ping can be just the use of the initial letters of words or syllables for brevity or catch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V, YMCA, TB, TV, P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words are clipped to turn them into euphem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, BM, V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hortening Words: Initialisms</a:t>
            </a:r>
            <a:br>
              <a:rPr sz="4000"/>
            </a:b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Alphabetisms and Acronym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phabetism: when you say the names of the le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, O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ronym: when you say the initialism as a word.  akros ‘tip’ + onyma ‘name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WOL, WASP, ROTC, V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afu, fu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-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hortening Words: Initialisms</a:t>
            </a:r>
            <a:br>
              <a:rPr sz="4000"/>
            </a:b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Alphabetisms and Acronym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e Acrony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ing the words to make a good acrony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hortening Words: Initialisms</a:t>
            </a:r>
            <a:br>
              <a:rPr sz="4000"/>
            </a:b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Alphabetisms and Acronym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come very commonly used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uba, laser, SUV, SWAT, DNA, NASA, radar, DV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hortening Words: Apheretic and Aphetic Form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heresis: omission of sound from the beginning of a 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use me &gt; ’scuse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&gt; ’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apheresis results in a new word becoming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der &gt; f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se &gt; f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iquette &gt; ticket (meaning is very different n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ossum &gt; Possum , Raccoon &gt; C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hortening Words: Apheretic and Aphetic Form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hesis: Omitting the unstressed vowel at the beginning of a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te &gt; 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quire &gt; squ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one &gt; 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reating Words: Root Creation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creations: create a new word out of no other meaningful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r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ylon, Dacron, Orl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hortening Words: Back-Formation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ing a new word from an older word that is mistakenly assumed to be a derivative of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burgle from burg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ase (sing) &gt; p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rise (sing) &gt; che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s (sing) &gt; alms (plu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Blending Word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two words together to make a new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sh = flash + gush 15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irl = twist + whirl 15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wis Carroll portmanteau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rtle, Galumph, Sn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ful bl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el, Urinalysis, Quasar, Brunch, Mod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Blending Words: Folk Etymolog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mishear a word and make up a new word, some mistakes becomes pop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caracha &gt; cock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st of drawers &gt; Chester dra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bble eg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hifting Words to New Usages: Functional Shift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Shift: Using one part of speech for another part of speech with no change in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easy to do in English because of the lack of inf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s of the body have become ver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bs become no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uns become ad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ectives become no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hifting Words to New Usages: Common Words from Proper Name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ization: Functional Shift in which a proper names becomes a common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onym: The word that is derived from a proper name; the person who bore the name that became the common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ynch, Boycott, Sandw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hifting Words to New Usages: Common Words from Proper Name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he names are slightly chan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Duns Scotus &gt; Du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s from literature or myth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las, hector, Don Juan, aphrodisia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names have become commo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bel, blarney, china, shanghai, turkey, sherry, sodom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hifting Words to New Usages: Common Words from Proper Names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brand names of commercial products have become so widespread for their names to pass into commo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alator, zip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-Aid, Scotch tape, Kleen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hoover, to google, to xer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reating Words: Echoic Word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hoic Words: words that imitate a 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itative: Meow, moo, bowwow, v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ic: bang, b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literate: splish splash splo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rhyme: bang c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ouble: bowwow, peewee, choo-cho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reating Words: Ejaculation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 the instinctive vocal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he written response becomes so conventional that you instinctively say 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tionalized ejac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-ha, teh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h, psh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m-y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w, p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t-tut, tsk-t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h-hu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ck, bra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nx cheer, Raspberry: raspberry 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ombining Words: Compounding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ting two or more words together to form a new word with a meaning in some way different from its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ck + board = black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unds spelled in 3 different ways; unpredictable and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: hatch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henated: laid-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: center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ombining Words: Compounding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unding was common in Old Eng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unding continues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internet related terms are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ombining Words: Compounding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lling and Pronun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lling v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ectives: one-horse, out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bs: broadcast, double-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uns: ice cream, sit-in, ic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ositions: upon, ou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rbs: neverth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nouns: my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6:35:16Z</dcterms:created>
  <dc:creator>USER</dc:creator>
  <dc:description/>
  <dc:language>en-US</dc:language>
  <cp:lastModifiedBy>Michael</cp:lastModifiedBy>
  <dcterms:modified xsi:type="dcterms:W3CDTF">2014-05-08T21:16:42Z</dcterms:modified>
  <cp:revision>7</cp:revision>
  <dc:subject/>
  <dc:title>The Origins and Development of the English Language Chapter 11: New Words from Old</dc:title>
</cp:coreProperties>
</file>